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DD6-2C7D-414A-B7DE-EAA77F5A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146-06F9-48DC-9B7B-D50AF15F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331-D5C9-4039-B7E7-1261A110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1CF-B700-4084-86A1-7CCFDC1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7AC-D140-4175-B2BB-7D86A536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988-D77B-415F-8CBA-D992BBA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3F5-3C76-4BE1-9197-01FBDEF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8A3-EABD-4816-AAC2-D22AE83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2F0-46B4-476F-B398-7AEC4D0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3D2-354D-4C80-87E2-3503378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D79-45B8-4C7C-B1D5-58FF85E2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985-C190-488C-876B-10009916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404-EE68-4F31-BD98-B9ADA08CAB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2E8-5E4A-4A87-9D6A-21F3FDAA9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85840" y="164304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Key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428760" y="107172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85840" y="171468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Ke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38:44Z</dcterms:modified>
  <cp:revision>149</cp:revision>
  <dc:subject/>
  <dc:title>Slide 1</dc:title>
</cp:coreProperties>
</file>